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CCF-DCE4-4AB6-A24C-56D2D56E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E71-566D-436E-AB5E-DAC9C38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CF6-D200-4BDC-B045-FFA9CC19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5DD-FFB8-41B9-B4DE-345E6D62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9ECA-1374-45D3-9E42-C7F2BFF7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2156-C174-4F80-98C1-8809F2D3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F083-724E-4DE9-A21E-EDF53411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3BC6-FD6E-48D1-B3BC-6C7D21F8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04A8-D9C4-445C-BFBA-B8921664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6F96-FC00-48A1-BE82-58652E7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C37F-14F4-48E7-9630-61C9BDEF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5ED-96DF-44B9-A463-56C18336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1CA7-B28A-4D1B-98EF-A141938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C3DD-2AC8-44F3-9D54-6CD844B9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CDCD-5EFB-43F9-BB97-38F668C2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9FD3-CB8D-48B9-90E7-46EEB9C4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59A6-939F-41EF-B012-F9326342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78D-FEA0-4CF2-B3C7-D989131D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640-685E-4FFF-934D-DF064C65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E3E-23A1-4566-8BA9-773BF349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1C4-B44A-46D1-A129-A4082B4E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2CB-FA68-4243-9F18-F7C1EFEB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3A2-29EF-438B-8084-FFFC401F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C9E-DE51-4140-BD3E-34DBA6C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DE21-FD34-453D-99C2-AF16F67F4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640D-D5BA-479F-BE97-54E505572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1320" y="7621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3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9051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143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s minas e demais riquezas do subsolo, bem como as quedas d’águas, constituem propriedade distinta da propriedade do solo para o efeito de exploração ou aproveitamento industrial. O aproveitamento industrial das minas e das jazidas minerais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s águ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 da energia hidráulica, ainda que de propriedade privada, depende de autorização fede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8:21:59Z</dcterms:modified>
  <cp:revision>72</cp:revision>
  <dc:subject/>
  <dc:title>Apresentação do PowerPoint</dc:title>
</cp:coreProperties>
</file>